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4E57-64C4-40AA-BC1C-B10E7BA1DFA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F929-E5A4-4628-B14F-4B25DB72B0E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2EEC-8CAE-49EB-8F3E-9A18A7547C4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53FE-76B6-411A-983E-10862E84677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72D0-00B5-458F-AA10-E8614919573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AE8E-203E-423A-9355-A9EAE137D09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1619-3248-48B9-B872-49F749D0F53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62B6-2EC7-4475-AE3A-38097A42B2B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EEA3-6B37-43B8-A4BC-F7047FAF0F9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CE3A-752C-42E5-A205-FBD66D90496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8F7D-A489-428C-9B71-7218669ABD0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67DE-A8C4-4741-95AB-04545325A60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3142-91B3-4DF1-AC77-CC50FFB719C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0591-0831-40FD-BC44-247848B0FAB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644B-ECFE-48D1-A46B-B589834032D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0722-2B35-4521-9D10-52F6727B246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EE82-2A6C-43D6-BD6B-E11CE3BB656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9BEC-DA54-4582-999B-C7F3ADD3449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F890-6456-4294-8A64-7A341098FC7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3765-41F6-440D-B73F-E745F3E7292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4B76-436A-4040-ACBA-468935D9911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F293-075D-4FAC-9F8C-DFDB31ABC62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C3D3-6A30-4BE7-B54A-6F468F97989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7666-CCDF-4B37-88D6-B561414E9EF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2458-AABB-4D2E-B96C-574734E7324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4E1C-F421-481E-A615-1BD6DB8C741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0C2B-2898-4DDC-A275-ABCAB4407D9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68AE-33A0-41DA-BBF7-4467183F6E6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4AEC-2B76-4EBE-993A-FBC729CB5E8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8238-BEFE-4004-B51A-B558E81CFBE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A4B9-8131-428F-97C4-3B1F4083F75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28B7-3AC1-449D-9CEA-FF58CEB1287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1A3B-E2B1-4BEA-9ACC-5E3E885A723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F70C-FDA6-4F99-8EFD-C8CA521C4AC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DCB9-01EE-4B1D-ACD1-8EC48A9B9B7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74C1-14A3-4116-9E90-C21E1EBDECC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ABE8-B198-4513-BF89-6BAAA6E17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B61A-80E2-4070-A64B-0C915C55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A4F5-C46B-4016-BBB5-574A8C205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9365-9595-4B5B-84B7-E82291516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2B8E-4500-4397-B7CE-59C42A64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3BC2-401D-48FE-BB38-0AB4D83D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1ACA-35C5-42AF-BFDB-CA39F38B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C000-87B2-4611-8D32-17FA329B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3809-607C-4537-A302-ADDA76F9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C430-6FD2-4C15-8B88-81E8FA8B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E928-B241-403F-B4B8-64C447CF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803A-A873-4F88-BB53-7A846AB1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197A-4B54-4247-8EE1-5B1E049A5986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变化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biànhuà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변화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那个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nàg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저것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그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刮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uā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불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风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fē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바람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地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ìqiú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지구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病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ì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병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병나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严重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yánzhòn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심각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照顾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àogù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보살피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è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을 위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ā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그것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开车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āichē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운전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Arial"/>
              </a:rPr>
              <a:t>晴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qí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맑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纸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ǐ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종이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种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ò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심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ù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나무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些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ē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조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약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拍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23808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pāi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찍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习惯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íguà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버릇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습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跑步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pǎobù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달리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一共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ígò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모두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전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必须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ìxū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5241600"/>
            <a:ext cx="638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반드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해야한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经常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jīngchán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5241600"/>
            <a:ext cx="638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늘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자주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종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阴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ī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흐리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本来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ěnlá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본래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원래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多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7"/>
          <p:cNvSpPr/>
          <p:nvPr/>
        </p:nvSpPr>
        <p:spPr>
          <a:xfrm rot="10800000">
            <a:off x="333000" y="664524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duō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얼마나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也许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ěxǔ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어쩌면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아마도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其实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qíshí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사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完全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wánquán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완전히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永远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yǒngyuǎ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영원히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언제나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预报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ùbà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예보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多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uōyú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흐린 날씨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可能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ěné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아마도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带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à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휴대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发音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fāyī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발음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声音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shēngyī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소리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8T01:07:04Z</dcterms:created>
  <dc:creator>System</dc:creator>
  <dc:description/>
  <dc:language>en-US</dc:language>
  <cp:lastModifiedBy>System</cp:lastModifiedBy>
  <dcterms:modified xsi:type="dcterms:W3CDTF">2014-01-28T01:52:14Z</dcterms:modified>
  <cp:revision>5</cp:revision>
  <dc:subject/>
  <dc:title>슬라이드 1</dc:title>
</cp:coreProperties>
</file>